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AD97-9C72-4DF8-9FF6-307DAEBCCA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D2A0-4A7F-4277-BD4E-71F2BA4A7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5FB2-4DD5-4E07-B1C9-6B67FD0AD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6E5E-2C84-4452-8171-6DD4CD2A7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D87F-7C1D-439B-828A-C9455105E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7DE7-5C14-44C5-BB6A-450BF7992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4514-5228-4E05-8F13-917FD1D40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013F-67F2-4ED1-B8F1-8C91E80E7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EC2F-606B-4A28-B086-229EE947A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814-B8B2-4247-9738-DFB05A18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1CA-A5DE-453B-9EFE-6C9B8B81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963-94C3-4565-835C-C9743381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F4E-DEA2-4974-84A7-B48644E3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4F8D-397C-4DC8-961F-558752EE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00E0-E244-4E0B-852D-0CBB7B0E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73F8-5427-4104-A77F-A62A6373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8F3C-C986-4D7F-9606-6D1738A4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B40B-1C95-46CD-85E4-45186E71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531F-1C73-415A-99BB-62A0C1C5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D9DC-1FFF-4F31-833C-3EAFDA03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810-8F8E-42DA-A456-0E06D5D7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BA2E-A7DE-4300-AE8C-C0FBFCD0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34D5-7DCA-4477-AA75-7F97F25A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5365-6ED0-4A11-AD90-565AE403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F497-B04E-47F9-824A-C1BACB2D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057F-3D06-48CE-8891-729ADBF6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C6B5-7EED-45EE-B31F-DCF74830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E1DE-05DA-4730-91BC-EF4C4777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BA8A-1DF0-4297-8B09-1FB6A8F4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37B35-C00A-46AA-A20A-89D8C203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DA58C-E3E9-47C4-8CD5-269ADC80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1A8-4BD1-4FB8-9DBF-AD72DAAE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2A21-F88F-45C5-A64D-C9D04352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BF36-2572-455A-A1C3-1AE88213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DF4A-ACAD-4ED3-913C-6BC24CDD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67AB-6FA7-4A2F-B038-C13B267E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ADE90-39C5-4CF8-98CA-B8EEF3A2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04D92-C73B-478B-951E-66A625FC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37D68-C343-4348-B1A1-4E808671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9827C-D55F-4AD2-9810-C1D66735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5B8B7-6B45-405F-96D1-5E1E730E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64D7A-BC3C-4189-9FF0-9BE13C87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1E2-7D88-48A2-847A-B5ADF64A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EDD7C-0094-4471-B508-01F68057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6A8C3-2DBD-4F10-97E0-3BF33CA1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920D5-0B41-4038-BC27-63EAB707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1C5DC-3E07-402D-BC0F-E7E5FFA0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E1BCB-D4BB-4A20-BFAC-F93649C6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5919A-9DDA-444A-A890-0591D219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5DAF9-4672-45EB-AFA5-D250A984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34C56-6637-4A2C-94C0-015BDAB6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3F39-DD1C-4C63-B84F-24B0B414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245-F79E-4D4C-8F7F-EB560714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A07-DB4B-496D-B2BC-C57121A8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E85-2203-4DDA-BDFF-28094F83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FD7-D815-4476-81F6-B487BA35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5B2-7351-4B12-AE05-65ECB3EB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0BB7-2F8B-4163-A223-04715A1CDE2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9352-209D-4BAF-993F-874BAE6B5C4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20D6-AB3C-4395-A619-F39AF4EF377D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D588-94CF-4416-9518-46765817639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C711-B0BF-4259-B242-2F895912F377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F391-A923-4EE9-89D5-503CCEDEE6E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236F-1EC6-45BC-9A90-44E98E30A97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B2B8-D4EE-48D3-8CCF-8A20EE8F5B6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ellrin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nstantia"/>
              </a:rPr>
              <a:t>What are all living things made of?</a:t>
            </a:r>
            <a:endParaRPr b="0" lang="en-US" sz="6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okaryotic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ell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27428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Prokaryotic cells are very simple and do not have a nucleus.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nstead of a nucleus, prokaryotic cells have a nucleoid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he only organelles that prokaryotic cells have are ribosome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4106880" y="0"/>
            <a:ext cx="5037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t’s Practice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nstantia"/>
              </a:rPr>
              <a:t>Do prokaryotic cells have a nucleus?</a:t>
            </a:r>
            <a:endParaRPr b="0" lang="en-US" sz="43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7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nstantia"/>
              </a:rPr>
              <a:t>How are all prokaryotic cells similar?</a:t>
            </a:r>
            <a:endParaRPr b="0" lang="en-US" sz="4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ukaryotic 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2280" y="2087280"/>
            <a:ext cx="8686800" cy="46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 u="sng">
                <a:solidFill>
                  <a:srgbClr val="000000"/>
                </a:solidFill>
                <a:uFillTx/>
                <a:latin typeface="Constantia"/>
              </a:rPr>
              <a:t>Eukaryotic cells are more complex and have a nucleus.  </a:t>
            </a: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 u="sng">
                <a:solidFill>
                  <a:srgbClr val="000000"/>
                </a:solidFill>
                <a:uFillTx/>
                <a:latin typeface="Constantia"/>
              </a:rPr>
              <a:t>They have a lot of organelles including ribosomes. </a:t>
            </a: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5773680" y="0"/>
            <a:ext cx="3370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t’s Practice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Do eukaryotic cells have a nucleus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1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How are all eukaryotic cells similar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t’s Practice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11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nstantia"/>
              </a:rPr>
              <a:t>What similarities are there between prokaryotic and eukaryotic cells?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11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nstantia"/>
              </a:rPr>
              <a:t>Is there diversity among cells?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11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nstantia"/>
              </a:rPr>
              <a:t>How are prokaryotic and eukaryotic cells different?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GP1 – Which of these is a prokaryotic cell? Why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4038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4419360" cy="44956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6"/>
          <p:cNvSpPr/>
          <p:nvPr/>
        </p:nvSpPr>
        <p:spPr>
          <a:xfrm>
            <a:off x="304920" y="2209680"/>
            <a:ext cx="761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7620120" y="1828800"/>
            <a:ext cx="761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GP2 – Which of these is a eukaryotic cell? Why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4038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4419360" cy="44956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304920" y="2209680"/>
            <a:ext cx="761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7620120" y="1828800"/>
            <a:ext cx="761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4200"/>
            </a:br>
            <a:r>
              <a:rPr b="0" lang="en-US" sz="4200" spc="-1" strike="noStrike">
                <a:solidFill>
                  <a:srgbClr val="04617b"/>
                </a:solidFill>
                <a:latin typeface="Calibri"/>
              </a:rPr>
              <a:t>GP3 – What do eukaryotic cells have that prokaryotic cells do not have?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4038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4419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P4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4617b"/>
                </a:solidFill>
                <a:latin typeface="Constantia"/>
              </a:rPr>
              <a:t>What do eukaryotic and prokaryotic cells both have?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P5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160" y="3428640"/>
            <a:ext cx="74674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4617b"/>
                </a:solidFill>
                <a:latin typeface="Constantia"/>
              </a:rPr>
              <a:t>Is this a prokaryotic cell or eukaryotic cell?</a:t>
            </a:r>
            <a:endParaRPr b="0" lang="en-US" sz="6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32274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8"/>
          <p:cNvSpPr/>
          <p:nvPr/>
        </p:nvSpPr>
        <p:spPr>
          <a:xfrm>
            <a:off x="4191120" y="789120"/>
            <a:ext cx="1523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ibo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1"/>
          <p:cNvSpPr/>
          <p:nvPr/>
        </p:nvSpPr>
        <p:spPr>
          <a:xfrm>
            <a:off x="5676840" y="666720"/>
            <a:ext cx="163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nucleol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ticipatory S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 N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genda and Announce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948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g goal conn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put – notes on prokaryotic and eukaryotic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uided Practice – Cell ID team ga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ependent Practice – Workshe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osing – Journal Refl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"/>
          <p:cNvPicPr/>
          <p:nvPr/>
        </p:nvPicPr>
        <p:blipFill>
          <a:blip r:embed="rId2"/>
          <a:stretch/>
        </p:blipFill>
        <p:spPr>
          <a:xfrm>
            <a:off x="4768920" y="2133720"/>
            <a:ext cx="4375080" cy="4483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380880" y="457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G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72960" y="1828800"/>
            <a:ext cx="419904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4617b"/>
                </a:solidFill>
                <a:latin typeface="Constantia"/>
              </a:rPr>
              <a:t>Is this a prokaryotic or eukaryotic cell?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P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10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4617b"/>
                </a:solidFill>
                <a:latin typeface="Constantia"/>
              </a:rPr>
              <a:t>You look through a microscope and see a cell that has chloroplast, a cell wall, a Golgi apparatus, and a nucleus.  Should you classify this cell as prokaryotic or eukaryotic?</a:t>
            </a:r>
            <a:endParaRPr b="0" lang="en-US" sz="4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P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nstantia"/>
              </a:rPr>
              <a:t>How do scientist classify things (refer to our big ideas)?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 u="sng">
                <a:solidFill>
                  <a:srgbClr val="04617b"/>
                </a:solidFill>
                <a:uFillTx/>
                <a:latin typeface="Calibri"/>
              </a:rPr>
              <a:t>3.1 Independent Practice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ourn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2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4617b"/>
                </a:solidFill>
                <a:latin typeface="Constantia"/>
              </a:rPr>
              <a:t>In your journal section, write a reflection on what you learned today, what was interesting, and what you though of class.</a:t>
            </a: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nounc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nstantia"/>
              </a:rPr>
              <a:t>Binder Organization – Move all of your notes from classwork into study aids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nstantia"/>
              </a:rPr>
              <a:t>YOU SHOULD HAVE </a:t>
            </a:r>
            <a:r>
              <a:rPr b="1" lang="en-US" sz="4200" spc="-1" strike="noStrike">
                <a:solidFill>
                  <a:srgbClr val="000000"/>
                </a:solidFill>
                <a:latin typeface="Constantia"/>
              </a:rPr>
              <a:t>NO </a:t>
            </a:r>
            <a:r>
              <a:rPr b="0" lang="en-US" sz="4200" spc="-1" strike="noStrike">
                <a:solidFill>
                  <a:srgbClr val="000000"/>
                </a:solidFill>
                <a:latin typeface="Constantia"/>
              </a:rPr>
              <a:t>NOTES IN YOUR CLASSWORK SECTION NOW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fter today, you will be able to identify that scientists classify things based on patterns, similarity, and diversity. You will also be able to classify cells and explain that a eukaryotic cell has a nucleus and a prokaryotic cell does not.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g Goal Conn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0% Mastery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9 weeks we had 77.8%  71.7%  74.4%  52.8% on our learning go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9 weeks we will make it to 8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Idea of Science – Patterns, Similarity, and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ill be able to write a short answer response defining this big idea and giving an exam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– Well organized binders increase your ability to find and study your notes. (It also means you will earn your team more points on review questio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ig Idea: Patterns, Similarity, and Diversi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onstantia"/>
              </a:rPr>
              <a:t>Scientists classify things based on patterns, similarity, and diversity.</a:t>
            </a:r>
            <a:endParaRPr b="0" lang="en-US" sz="4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onstantia"/>
              </a:rPr>
              <a:t>In nature, some things occur repeatedly creating a pattern.</a:t>
            </a:r>
            <a:endParaRPr b="0" lang="en-US" sz="4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ig Idea: Patterns, Similarity, and Diversi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Similarity means that things are alike in some way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iversity means that things are different in some way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t’s Practice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spcBef>
                <a:spcPts val="11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nstantia"/>
              </a:rPr>
              <a:t>What are patterns?</a:t>
            </a:r>
            <a:endParaRPr b="0" lang="en-US" sz="4600" spc="-1" strike="noStrike">
              <a:solidFill>
                <a:srgbClr val="000000"/>
              </a:solidFill>
              <a:latin typeface="Constantia"/>
            </a:endParaRPr>
          </a:p>
          <a:p>
            <a:pPr marL="914400" indent="-914400">
              <a:spcBef>
                <a:spcPts val="11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nstantia"/>
              </a:rPr>
              <a:t>What does it mean if things are similar?</a:t>
            </a:r>
            <a:endParaRPr b="0" lang="en-US" sz="4600" spc="-1" strike="noStrike">
              <a:solidFill>
                <a:srgbClr val="000000"/>
              </a:solidFill>
              <a:latin typeface="Constantia"/>
            </a:endParaRPr>
          </a:p>
          <a:p>
            <a:pPr marL="914400" indent="-914400">
              <a:spcBef>
                <a:spcPts val="11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nstantia"/>
              </a:rPr>
              <a:t>What does it mean if thing are diverse?</a:t>
            </a:r>
            <a:endParaRPr b="0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4:57:43Z</dcterms:created>
  <dc:creator>Cristi</dc:creator>
  <dc:description/>
  <dc:language>en-US</dc:language>
  <cp:lastModifiedBy>Caroline Roth</cp:lastModifiedBy>
  <dcterms:modified xsi:type="dcterms:W3CDTF">2010-10-11T20:22:40Z</dcterms:modified>
  <cp:revision>11</cp:revision>
  <dc:subject/>
  <dc:title>The Cell</dc:title>
</cp:coreProperties>
</file>